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F1B8-34FA-4AF9-AD09-AD55D8CA4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C4C-2B35-4E81-B9E1-A8E29B99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3273-2A75-4EF1-BCF0-40F08808C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884-C522-40A1-8B6B-B8C1530A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09C0C1-FEBE-453C-839A-B6D5BED98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C0F39-9397-44C2-9268-9CE3B48E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B6FCC3-0B6D-4DDE-A042-4B51444F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63E91-85CB-441F-959A-8E8BA3817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B7BF68-83A4-4E81-A6C8-1BC86B47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5C6A63-3B8D-460F-814D-3752D9C2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B74F6-3862-417E-AE5C-784EBD43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D2A3-437A-4371-BA50-0931D93E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B3997D-7DF7-4135-8F6D-25C6EF3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8BCB2-E7F6-4A7B-B5FE-DC4273A9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A1013-17C5-411C-981D-3BCE8BE1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0629D4-04BB-429F-9A07-923F18AB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8F89-58E6-46C6-8BAD-556280E9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ED5B-0A80-491C-BB56-4630F3B47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0FD-5445-4AD4-B3AC-383BC0FB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DA9-0561-471C-B5D4-14F58A1E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A73E-B8AE-4EE3-BA20-C01270BE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37A2-D88B-462D-8A02-346ACEFD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9E31-B86E-4B96-88FF-B949DE86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434C-2912-4662-8A3C-90174EB1A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0528-09C1-408E-961B-C8B0872FF9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675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fab"/>
              </a:gs>
              <a:gs pos="100000">
                <a:srgbClr val="66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9b5b8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eabae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B005-04CD-4AE5-8474-1A6A3A61CD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3ed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3edff"/>
                </a:solidFill>
                <a:latin typeface="Arial"/>
              </a:rPr>
              <a:t>The Persian Gulf States</a:t>
            </a:r>
            <a:endParaRPr b="0" lang="en-US" sz="5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uwai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hr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ata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ted Arab Emir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j Dub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970440" y="0"/>
            <a:ext cx="5173560" cy="68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Island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62120" y="1390680"/>
            <a:ext cx="7294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Island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857232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Hydropolis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619520" y="1562040"/>
            <a:ext cx="4524480" cy="529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6032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Notes</a:t>
            </a: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at deserts, Offshore 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lth care, edu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eign Wor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35812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$$$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Welcome to Duba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14680" y="1447920"/>
            <a:ext cx="5715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Al Burj Hotel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06720" cy="3654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483000" cy="2768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657600" y="1143000"/>
            <a:ext cx="44053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The 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61976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Sultan’s Palace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5273640" cy="39117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400640" y="3244680"/>
            <a:ext cx="474336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urj Dubai Tower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85840" y="1066680"/>
            <a:ext cx="85723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675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Burj Dubai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53896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8:35:28Z</dcterms:created>
  <dc:creator>Joe Dirt</dc:creator>
  <dc:description/>
  <dc:language>en-US</dc:language>
  <cp:lastModifiedBy>Joe Dirt</cp:lastModifiedBy>
  <dcterms:modified xsi:type="dcterms:W3CDTF">2008-01-03T20:30:46Z</dcterms:modified>
  <cp:revision>4</cp:revision>
  <dc:subject/>
  <dc:title>The Persian Gulf States</dc:title>
</cp:coreProperties>
</file>